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127-E6CD-40CD-8598-42BF97F2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B2F-88FE-4E70-BCCB-FC2823AB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4FB-82FD-4D44-BDC4-4C960F14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48C-DBDF-45CC-9C21-ED4AF31B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F376-E19C-4434-9969-EDABEC8B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DEB-0EF2-41E8-8357-118A79C9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7C3-E310-4E07-BC03-D6B23CF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FF8-12C5-4C9A-BC3D-98FD1B6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485-A9C9-47B0-A233-2A76033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F3A-E509-4DF7-9C65-A6F1AD4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348-FAFE-42DB-9C29-30BB108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492-B424-4F21-A951-458C237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6E7-C43B-4639-91DA-99C8E86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47D1-0859-44CA-B155-F208E1B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A43-01E7-456D-AF6F-FA4D2465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9EA-851A-4A86-90A3-3760BD8D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908-66BC-44A6-A0C1-239DB27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B24-1F9E-4FEB-8515-CBEFCEA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7BB-EB89-4A5D-AD90-7CA7C93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8CD-B307-4661-B418-6F9B61F1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283-A5B8-41A4-8A96-1292CA9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E5F-8B80-4DC1-B345-250E3CB4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938-73E1-4377-B2A4-1415324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975-BCBD-4DC9-96BC-4477FCD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9F7E-E6BE-4927-9955-8912A537D5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043A-15AE-49B6-89D1-3B636F3171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nklin Pierce U.S. president from 1853 to 1857 didnt like no politics and didn’t chose to be presid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nklin Pierce, United States president from 1853 to 1857, didn’t like politics and didn’t choose to be presid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as your most humiliating/embarrassing moment so far in school? Write a description of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for Vocabulary quiz tomorr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KAM questions and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ch. 26 and 27 for tom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tsby worksheet-can use boo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tsby symbolism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is due at the end of the peri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34:16Z</dcterms:created>
  <dc:creator>rebecca</dc:creator>
  <dc:description/>
  <dc:language>en-US</dc:language>
  <cp:lastModifiedBy>rebecca</cp:lastModifiedBy>
  <dcterms:modified xsi:type="dcterms:W3CDTF">2009-03-11T18:45:15Z</dcterms:modified>
  <cp:revision>2</cp:revision>
  <dc:subject/>
  <dc:title>DOL</dc:title>
</cp:coreProperties>
</file>